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F5C2-0CC5-4F9D-B851-43759460B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FB4D-0FD9-4628-99F4-14697904E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6DBC-E5A0-4568-BBD0-290B7BBCA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127F-09B8-48DC-BE0F-7249C27CF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3687-E342-48F6-935A-75CBA0BB6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352F-2C61-4891-8E3C-FE4D25E5C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3A45-7AB1-43E2-AB49-6808960BF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F137-25AB-425D-AC92-9B21BDDFE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D7C8-5EEC-42EE-8175-1F53568D5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18F2-628D-4A1A-9D8F-6DEF7047C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18F7-70DD-46D5-B1CB-FF5742F8D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FBEB-0D75-4690-A804-A6493CEE2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900CD-7696-43D4-B82B-6FFA8F103E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20" y="57240"/>
          <a:ext cx="6657840" cy="874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57240"/>
                    <a:ext cx="6657840" cy="874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0" y="0"/>
          <a:ext cx="6858000" cy="914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914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295080" y="8381880"/>
            <a:ext cx="1501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rush Script MT"/>
              </a:rPr>
              <a:t>Robert I. Fich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4280" y="8686800"/>
            <a:ext cx="62445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 1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14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0" y="0"/>
          <a:ext cx="6858000" cy="914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914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3300120" y="8385120"/>
            <a:ext cx="13579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rush Script MT"/>
              </a:rPr>
              <a:t>John F. Wrigh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4280" y="8686800"/>
            <a:ext cx="62445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 1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15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0" y="0"/>
          <a:ext cx="6858000" cy="914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914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3213000" y="8385120"/>
            <a:ext cx="1600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rush Script MT"/>
              </a:rPr>
              <a:t>Golden Diam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4280" y="8686800"/>
            <a:ext cx="62445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 1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16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0" y="0"/>
          <a:ext cx="6858000" cy="914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914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3212640" y="8385120"/>
            <a:ext cx="1501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rush Script MT"/>
              </a:rPr>
              <a:t>Robert I. Fich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4280" y="8686800"/>
            <a:ext cx="62445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 1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17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0" y="0"/>
          <a:ext cx="6858000" cy="914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3220560" y="8385120"/>
            <a:ext cx="14569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rush Script MT"/>
              </a:rPr>
              <a:t>Rick Cartwrigh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4280" y="8686800"/>
            <a:ext cx="62445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 1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18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0" y="0"/>
          <a:ext cx="6858000" cy="914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914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727200" y="6556320"/>
            <a:ext cx="969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rush Script MT"/>
              </a:rPr>
              <a:t>Jerry Tit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65680" y="6556320"/>
            <a:ext cx="1387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rush Script MT"/>
              </a:rPr>
              <a:t>Gary C. Gera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82000" y="7238880"/>
            <a:ext cx="1486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rush Script MT"/>
              </a:rPr>
              <a:t>Aaron E. Wil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301040" y="7927920"/>
            <a:ext cx="13809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Handwriting"/>
              </a:rPr>
              <a:t>Jason Willi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4280" y="8686800"/>
            <a:ext cx="62445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 1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19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0" y="0"/>
          <a:ext cx="6858000" cy="914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914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790560" y="6553080"/>
            <a:ext cx="1621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rush Script MT"/>
              </a:rPr>
              <a:t>Catherine Gar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6553080"/>
            <a:ext cx="1539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rush Script MT"/>
              </a:rPr>
              <a:t>Robert L. Eich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406040" y="7315200"/>
            <a:ext cx="1486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rush Script MT"/>
              </a:rPr>
              <a:t>Aaron E. Wil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01040" y="7927920"/>
            <a:ext cx="13809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Handwriting"/>
              </a:rPr>
              <a:t>Jason Willi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4280" y="8686800"/>
            <a:ext cx="62445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 1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20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26440" y="8928000"/>
            <a:ext cx="6254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 1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an 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-201600" y="0"/>
          <a:ext cx="7059600" cy="913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01600" y="0"/>
                    <a:ext cx="7059600" cy="913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4757040" y="5114880"/>
            <a:ext cx="3920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208400" y="6469200"/>
            <a:ext cx="7365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Handwriting"/>
              </a:rPr>
              <a:t>Hans Volk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715560" y="8167680"/>
            <a:ext cx="11206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Handwriting"/>
              </a:rPr>
              <a:t>Wendall Purcha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341880" y="8928000"/>
            <a:ext cx="2916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19920" y="8915400"/>
            <a:ext cx="4572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0" y="0"/>
          <a:ext cx="6858000" cy="914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914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793440" y="6553080"/>
            <a:ext cx="1522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rush Script MT"/>
              </a:rPr>
              <a:t>William John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17880" y="6553080"/>
            <a:ext cx="1522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rush Script MT"/>
              </a:rPr>
              <a:t>William John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06040" y="7315200"/>
            <a:ext cx="1486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rush Script MT"/>
              </a:rPr>
              <a:t>Aaron E. Wil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01040" y="7927920"/>
            <a:ext cx="13809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Handwriting"/>
              </a:rPr>
              <a:t>Jason Willi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4280" y="8686800"/>
            <a:ext cx="62445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 1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22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26440" y="8928000"/>
            <a:ext cx="6254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 1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an 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0" y="0"/>
          <a:ext cx="6858000" cy="913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913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4757040" y="5114880"/>
            <a:ext cx="3920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190400" y="6469200"/>
            <a:ext cx="7012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Handwriting"/>
              </a:rPr>
              <a:t>P. Bough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715560" y="8167680"/>
            <a:ext cx="11206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Handwriting"/>
              </a:rPr>
              <a:t>Wendall Purcha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341880" y="8924760"/>
            <a:ext cx="2916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19920" y="8915400"/>
            <a:ext cx="4572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247680" y="76320"/>
          <a:ext cx="6305400" cy="847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680" y="76320"/>
                    <a:ext cx="6305400" cy="847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0" y="0"/>
          <a:ext cx="6858000" cy="914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914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2760120" y="6967440"/>
            <a:ext cx="1463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rush Script MT"/>
              </a:rPr>
              <a:t>Wendell Purc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4280" y="8775720"/>
            <a:ext cx="62445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 1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24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26440" y="8928000"/>
            <a:ext cx="6254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 1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an 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0" y="6480"/>
          <a:ext cx="6858000" cy="913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480"/>
                    <a:ext cx="6858000" cy="913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4757040" y="5114880"/>
            <a:ext cx="3920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21720" y="6469200"/>
            <a:ext cx="8020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Handwriting"/>
              </a:rPr>
              <a:t>Hans Koda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715560" y="8167680"/>
            <a:ext cx="11206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Handwriting"/>
              </a:rPr>
              <a:t>Wendall Purcha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341880" y="8924760"/>
            <a:ext cx="2916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19920" y="8915400"/>
            <a:ext cx="4572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26440" y="8928000"/>
            <a:ext cx="6254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 1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an 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0" y="0"/>
          <a:ext cx="6858000" cy="913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913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4757040" y="5114880"/>
            <a:ext cx="3920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239720" y="6469200"/>
            <a:ext cx="8568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Handwriting"/>
              </a:rPr>
              <a:t>Jane T. Smit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715560" y="8167680"/>
            <a:ext cx="11206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Handwriting"/>
              </a:rPr>
              <a:t>Wendall Purcha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341880" y="8924760"/>
            <a:ext cx="2916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8915400"/>
            <a:ext cx="4572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0" y="0"/>
          <a:ext cx="6858000" cy="914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914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694800" y="6553080"/>
            <a:ext cx="1123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rush Script MT"/>
              </a:rPr>
              <a:t>M.B. Moo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19240" y="6553080"/>
            <a:ext cx="1123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rush Script MT"/>
              </a:rPr>
              <a:t>M.B. Moo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377880" y="7318440"/>
            <a:ext cx="10882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rush Script MT"/>
              </a:rPr>
              <a:t>R.L.Eichk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3680" y="7848720"/>
            <a:ext cx="888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rush Script MT"/>
              </a:rPr>
              <a:t>O.R. 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4280" y="8686800"/>
            <a:ext cx="62445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 1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27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219240" y="47520"/>
          <a:ext cx="6419520" cy="903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240" y="47520"/>
                    <a:ext cx="6419520" cy="903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0" y="0"/>
          <a:ext cx="6858000" cy="914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914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4519080" y="7358040"/>
            <a:ext cx="132336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Aaron  E. Wil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29240" y="6553080"/>
            <a:ext cx="13154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William John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62360" y="6553080"/>
            <a:ext cx="13154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William John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4280" y="8686800"/>
            <a:ext cx="62445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 1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8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0" y="0"/>
          <a:ext cx="6858000" cy="914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2163960" y="6519960"/>
            <a:ext cx="97272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M.B. Mo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907160" y="6477120"/>
            <a:ext cx="97272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M.B. Mo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89920" y="7162920"/>
            <a:ext cx="98028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R.L. Eich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4280" y="8686800"/>
            <a:ext cx="62445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 1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3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0" y="0"/>
          <a:ext cx="6858000" cy="914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224280" y="8686800"/>
            <a:ext cx="62445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 1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10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244400" y="6566040"/>
            <a:ext cx="9392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R.L. Eich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163960" y="6519960"/>
            <a:ext cx="97272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M.B. Mo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20520" y="7086600"/>
            <a:ext cx="11174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Aaron Wil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0" y="0"/>
          <a:ext cx="6858000" cy="914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914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795600" y="6556320"/>
            <a:ext cx="1621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rush Script MT"/>
              </a:rPr>
              <a:t>Catherine Gar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84760" y="6553080"/>
            <a:ext cx="1539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rush Script MT"/>
              </a:rPr>
              <a:t>Robert L. Eich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06040" y="7238880"/>
            <a:ext cx="1486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rush Script MT"/>
              </a:rPr>
              <a:t>Aaron E. Wil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4280" y="8686800"/>
            <a:ext cx="62445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 1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11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0" y="0"/>
          <a:ext cx="6858000" cy="914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914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727200" y="6553080"/>
            <a:ext cx="969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rush Script MT"/>
              </a:rPr>
              <a:t>Jerry Tit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65680" y="6553080"/>
            <a:ext cx="1387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rush Script MT"/>
              </a:rPr>
              <a:t>Gary C. Gera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82000" y="7315200"/>
            <a:ext cx="1486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rush Script MT"/>
              </a:rPr>
              <a:t>Aaron E. Wil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4280" y="8686800"/>
            <a:ext cx="62445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 1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12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0" y="0"/>
          <a:ext cx="6858000" cy="914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914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801360" y="6553080"/>
            <a:ext cx="17467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rush Script MT"/>
              </a:rPr>
              <a:t>Ronald M. John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72520" y="6553080"/>
            <a:ext cx="1518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rush Script MT"/>
              </a:rPr>
              <a:t>Gale B. Rod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06040" y="7162920"/>
            <a:ext cx="1486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rush Script MT"/>
              </a:rPr>
              <a:t>Aaron E. Wil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4280" y="8686800"/>
            <a:ext cx="62445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 1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13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SEP 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7T21:10:39Z</dcterms:created>
  <dc:creator>Joseph Pecorella</dc:creator>
  <dc:description/>
  <dc:language>en-US</dc:language>
  <cp:lastModifiedBy>Administrator</cp:lastModifiedBy>
  <cp:lastPrinted>2000-01-25T21:58:24Z</cp:lastPrinted>
  <dcterms:modified xsi:type="dcterms:W3CDTF">2005-05-02T20:01:40Z</dcterms:modified>
  <cp:revision>33</cp:revision>
  <dc:subject/>
  <dc:title>No Slide Title</dc:title>
</cp:coreProperties>
</file>